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6.gif" ContentType="image/gif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F5EE-7665-4C20-85FF-1B8E8AB8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749-2D9C-4007-BE0E-393B872B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AC67-0CF2-4BBD-9301-68BFB907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CC4-E676-44D7-8728-B914E50E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A83D-FFE5-4F7A-BA5F-75B5143A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CE2D-554A-45BE-AC90-B179D366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16C8-BAA4-4C57-8CFF-F9210FA6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A3BD-C5BF-4958-98F9-F8FB679C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385F-B445-47C2-A273-04A48F2A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DF85-C791-487B-B2B1-0A6986E2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C3B2-984B-4569-A645-EB78911B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E1E5-F76A-4F6F-9FA7-9AEE7609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089A-B005-46B2-9571-FEBAEDA7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74C2-3B47-4098-B1C8-6FF0BA7A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799F-A0A4-44D1-BEED-640B2DD2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BF17-9DE5-4D8F-9AE0-429CABB0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07C8-083D-465E-A1BD-DF895132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370-BBE9-4DCF-963F-CDA77C3A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FF10-DF66-45A2-844A-437F851C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69A-3AD5-4939-B715-E54F5AEC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FE03-3A27-4185-BC65-BAEEB024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809-6D66-48CF-A0ED-1D670889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C40-BD24-4DB7-9251-E7083A43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099B-2AC9-48B8-8A99-E8068D50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639D-8E44-4E22-AED8-7AFA385C9D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86BF-FF69-4449-B9C3-5A54867200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halo%2B3%26rs%3D0%26ei%3DUTF-8%26js%3D1%26ni%3D20%26fr%3Dmy-myy%26vf%3D&amp;w=767&amp;h=982&amp;imgurl=nikon.bungie.org%2Fmiscartimages%2Fhalo_explosion3.jpg&amp;rurl=http%3A%2F%2Fnikon.bungie.org%2Fmiscart.html%3Fitem%3D142&amp;size=215.9kB&amp;name=halo_explosion3.jpg&amp;p=halo+3&amp;type=jpeg&amp;no=5&amp;tt=136,768&amp;oid=5f49f73f14089bf2&amp;ei=UTF-8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search.yahoo.com/search/images/view?back=http%3A%2F%2Fimages.search.yahoo.com%2Fsearch%2Fimages%3Fp%3Dskeletal%2Bsystem%26ei%3DUTF-8%26fr%3Dmy-myy%26x%3Dwrt%26js%3D1%26ni%3D20&amp;w=176&amp;h=200&amp;imgurl=nmhm.washingtondc.museum%2Fnews%2Fimgs%2Fskeletal_sm.jpg&amp;rurl=http%3A%2F%2Fnmhm.washingtondc.museum%2Fnews%2Fhuman_body_revealed_old.html&amp;size=34.1kB&amp;name=skeletal_sm.jpg&amp;p=skeletal+system&amp;type=jpeg&amp;no=16&amp;tt=10,032&amp;oid=753a231322692f36&amp;ei=UTF-8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hyperlink" Target="http://images.search.yahoo.com/search/images/view?back=http%3A%2F%2Fimages.search.yahoo.com%2Fsearch%2Fimages%3Fp%3Dclavicle%26sp%3D1%26fr2%3Dsp-top%26ei%3DUTF-8%26fr%3Dmy-myy%26x%3Dwrt%26js%3D1%26ni%3D20%26ei%3DUTF-8%26SpellState%3Dn-4216884953_q-Imu4MTBq6VPJVu.Mkhfo6gAAAA%40%40&amp;w=600&amp;h=400&amp;imgurl=www.usm.maine.edu%2Fgany%2Fbonebuddies%2Fclavicle.jpg&amp;rurl=http%3A%2F%2Fwww.usm.maine.edu%2Fgany%2Fbonebuddies%2Fbud.htm&amp;size=37.4kB&amp;name=clavicle.jpg&amp;p=clavicle&amp;type=jpeg&amp;no=4&amp;tt=8,870&amp;oid=5ab2e59c445b161c&amp;ei=UTF-8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pter 5: Skeletal System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Appendicular Skelet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44953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lv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41768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01040" y="0"/>
            <a:ext cx="1542960" cy="1752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pogo3"/>
          <p:cNvPicPr/>
          <p:nvPr/>
        </p:nvPicPr>
        <p:blipFill>
          <a:blip r:embed="rId5"/>
          <a:stretch/>
        </p:blipFill>
        <p:spPr>
          <a:xfrm>
            <a:off x="7620120" y="5410080"/>
            <a:ext cx="804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bia and Fibu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724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b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hin b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ars the weight of the l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ulates with the femur,, fibula, and tarsal b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u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parallel and lateral to the ti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7" descr="6868945"/>
          <p:cNvPicPr/>
          <p:nvPr/>
        </p:nvPicPr>
        <p:blipFill>
          <a:blip r:embed="rId4"/>
          <a:stretch/>
        </p:blipFill>
        <p:spPr>
          <a:xfrm>
            <a:off x="4876920" y="1600200"/>
            <a:ext cx="42670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n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tel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kneec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s positions of the quadriceps tendon and increase its leverage on the tib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 the knee to lock for bipedal locomo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Seif_knee%2520anatomy02"/>
          <p:cNvPicPr/>
          <p:nvPr/>
        </p:nvPicPr>
        <p:blipFill>
          <a:blip r:embed="rId3"/>
          <a:stretch/>
        </p:blipFill>
        <p:spPr>
          <a:xfrm>
            <a:off x="5181480" y="1523880"/>
            <a:ext cx="3740400" cy="4038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Seif_knee%2520anatomy01"/>
          <p:cNvPicPr/>
          <p:nvPr/>
        </p:nvPicPr>
        <p:blipFill>
          <a:blip r:embed="rId4"/>
          <a:stretch/>
        </p:blipFill>
        <p:spPr>
          <a:xfrm>
            <a:off x="4879800" y="1523880"/>
            <a:ext cx="3942000" cy="4038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n5550512"/>
          <p:cNvPicPr/>
          <p:nvPr/>
        </p:nvPicPr>
        <p:blipFill>
          <a:blip r:embed="rId5"/>
          <a:stretch/>
        </p:blipFill>
        <p:spPr>
          <a:xfrm>
            <a:off x="609480" y="1295280"/>
            <a:ext cx="822960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3812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rs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nkle b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 b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al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rticulates with the tibia and fibula; has no muscle attach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lcane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heel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tarsals: 5 b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langes: 14 per f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9" descr="talus2"/>
          <p:cNvPicPr/>
          <p:nvPr/>
        </p:nvPicPr>
        <p:blipFill>
          <a:blip r:embed="rId5"/>
          <a:stretch/>
        </p:blipFill>
        <p:spPr>
          <a:xfrm>
            <a:off x="0" y="1676520"/>
            <a:ext cx="43434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8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8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8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8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8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ctoral Girdle (shoulder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257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vic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ka: collarb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ulates with the sternum and the scap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s make the shoulder joint and an attachment point for liga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shoulder"/>
          <p:cNvPicPr/>
          <p:nvPr/>
        </p:nvPicPr>
        <p:blipFill>
          <a:blip r:embed="rId3"/>
          <a:stretch/>
        </p:blipFill>
        <p:spPr>
          <a:xfrm>
            <a:off x="5486400" y="1752480"/>
            <a:ext cx="3657600" cy="3632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120" y="4267080"/>
            <a:ext cx="3352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ctoral Girdle (shoulder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724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apu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ka shoulder bl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omion: the end of the spine that forms the shoulder j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enoid Cavity: a “pocket” for the head of the hume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ape of the scapula allows for muscles to att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7" descr="post-scapula"/>
          <p:cNvPicPr/>
          <p:nvPr/>
        </p:nvPicPr>
        <p:blipFill>
          <a:blip r:embed="rId3"/>
          <a:stretch/>
        </p:blipFill>
        <p:spPr>
          <a:xfrm>
            <a:off x="4876920" y="1600200"/>
            <a:ext cx="3813120" cy="2860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shoulder_joint"/>
          <p:cNvPicPr/>
          <p:nvPr/>
        </p:nvPicPr>
        <p:blipFill>
          <a:blip r:embed="rId4"/>
          <a:stretch/>
        </p:blipFill>
        <p:spPr>
          <a:xfrm>
            <a:off x="6172200" y="43434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m Bo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e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rticulates with the glenoid ca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itul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rounded knob that articulates with the rad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ochl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rticulates with the ul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8" descr="HumerusAnt0660"/>
          <p:cNvPicPr/>
          <p:nvPr/>
        </p:nvPicPr>
        <p:blipFill>
          <a:blip r:embed="rId3"/>
          <a:stretch/>
        </p:blipFill>
        <p:spPr>
          <a:xfrm>
            <a:off x="6019920" y="1600200"/>
            <a:ext cx="2743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lna and Radi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ln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medial side of the forea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ochlear Not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urved area that receives the trochlea of the hume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di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ateral side of the forea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: articulates with the capitulum of the hume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ulna"/>
          <p:cNvPicPr/>
          <p:nvPr/>
        </p:nvPicPr>
        <p:blipFill>
          <a:blip r:embed="rId4"/>
          <a:stretch/>
        </p:blipFill>
        <p:spPr>
          <a:xfrm>
            <a:off x="5029200" y="1600200"/>
            <a:ext cx="3875040" cy="4038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radm"/>
          <p:cNvPicPr/>
          <p:nvPr/>
        </p:nvPicPr>
        <p:blipFill>
          <a:blip r:embed="rId5"/>
          <a:stretch/>
        </p:blipFill>
        <p:spPr>
          <a:xfrm>
            <a:off x="5029200" y="16002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Wrist, Hand, Fing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es in each han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pals: 8 bo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carpals: 5 b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langes: 1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7" descr="Go to fullsize image"/>
          <p:cNvPicPr/>
          <p:nvPr/>
        </p:nvPicPr>
        <p:blipFill>
          <a:blip r:embed="rId6"/>
          <a:stretch/>
        </p:blipFill>
        <p:spPr>
          <a:xfrm>
            <a:off x="6019920" y="1600200"/>
            <a:ext cx="2530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lv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95324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xal Bo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he hipbones that are made of three fused b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ium: superior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chium: inferior and pos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is: inferior and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etabulum: that pocket found where the bone 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13" descr="HIP"/>
          <p:cNvPicPr/>
          <p:nvPr/>
        </p:nvPicPr>
        <p:blipFill>
          <a:blip r:embed="rId4"/>
          <a:stretch/>
        </p:blipFill>
        <p:spPr>
          <a:xfrm>
            <a:off x="5334120" y="1981080"/>
            <a:ext cx="380988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ude or Dudet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7" descr="ei_0291"/>
          <p:cNvPicPr/>
          <p:nvPr/>
        </p:nvPicPr>
        <p:blipFill>
          <a:blip r:embed="rId1"/>
          <a:stretch/>
        </p:blipFill>
        <p:spPr>
          <a:xfrm>
            <a:off x="4495680" y="1523880"/>
            <a:ext cx="4038840" cy="3048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ei_0179"/>
          <p:cNvPicPr/>
          <p:nvPr/>
        </p:nvPicPr>
        <p:blipFill>
          <a:blip r:embed="rId2"/>
          <a:stretch/>
        </p:blipFill>
        <p:spPr>
          <a:xfrm>
            <a:off x="304920" y="1523880"/>
            <a:ext cx="40384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3"/>
          <p:cNvSpPr/>
          <p:nvPr/>
        </p:nvSpPr>
        <p:spPr>
          <a:xfrm>
            <a:off x="752040" y="4761000"/>
            <a:ext cx="700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male inlet (superior opening) is larger and more circu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male bones are lighter and more th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male Ilia flare more later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male ischial spines are shorter; outlet (inferior opening) is lar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male pubic arch is more round as the bones are at a great ang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ce Leg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724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m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ongest, heaviest, strongest bone in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ticulates with the acetabu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eater and lesser trochanter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uscle attachment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l and Lateral Condy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rticulate with the ti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8" descr="6868945"/>
          <p:cNvPicPr/>
          <p:nvPr/>
        </p:nvPicPr>
        <p:blipFill>
          <a:blip r:embed="rId3"/>
          <a:stretch/>
        </p:blipFill>
        <p:spPr>
          <a:xfrm>
            <a:off x="4952880" y="16002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femur%2520upper%2520portion"/>
          <p:cNvPicPr/>
          <p:nvPr/>
        </p:nvPicPr>
        <p:blipFill>
          <a:blip r:embed="rId4"/>
          <a:stretch/>
        </p:blipFill>
        <p:spPr>
          <a:xfrm>
            <a:off x="4876920" y="1295280"/>
            <a:ext cx="3905280" cy="5086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knee_tibosteo_anatomy01"/>
          <p:cNvPicPr/>
          <p:nvPr/>
        </p:nvPicPr>
        <p:blipFill>
          <a:blip r:embed="rId5"/>
          <a:stretch/>
        </p:blipFill>
        <p:spPr>
          <a:xfrm>
            <a:off x="4800600" y="1295280"/>
            <a:ext cx="4343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01:48:22Z</dcterms:created>
  <dc:creator>Jeff Burghardt</dc:creator>
  <dc:description/>
  <dc:language>en-US</dc:language>
  <cp:lastModifiedBy>Administrator</cp:lastModifiedBy>
  <dcterms:modified xsi:type="dcterms:W3CDTF">2010-07-19T12:51:55Z</dcterms:modified>
  <cp:revision>8</cp:revision>
  <dc:subject/>
  <dc:title>Chapter 5: Skeletal System The Appendicular Skeleton</dc:title>
</cp:coreProperties>
</file>